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.png" ContentType="image/png"/>
  <Override PartName="/ppt/media/image34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770F-9394-4730-9A93-5FFA790B8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C12C-BA7B-4101-AFCF-55077951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B211-E8C7-4DAC-8A9B-36C8CD81F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0D09-83F2-4362-93A0-AE7FD635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84F0-CD30-4BCC-8679-094E614F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25BF-D043-4D9D-BF6D-160F5F1C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BA01-23BB-4B1F-8CE4-12C8E679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353E-E0D7-439F-BC0D-489CDC52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CF85-E14D-4B7C-9F55-22EB1C8B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9CAB-EDCD-4FB5-B39F-C64D2597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4E65-C68B-43CF-ABD3-CF703D27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EAF5-8A1D-4043-A1E0-3841D248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B6A8-73EA-48AB-9535-A29187E73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COHORT STUDIES</a:t>
            </a: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10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1629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7010280" cy="4876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343400" y="914400"/>
            <a:ext cx="914400" cy="711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584880" y="304920"/>
            <a:ext cx="19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10640" cy="5181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29680" y="243000"/>
            <a:ext cx="28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mous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1625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086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6933960" cy="1600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219320" y="2362320"/>
            <a:ext cx="63244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10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5960" y="228600"/>
            <a:ext cx="25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48-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781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238880" cy="3276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444760" y="914400"/>
            <a:ext cx="383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81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010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162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933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010280" cy="1511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295280" y="2362320"/>
            <a:ext cx="624852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81680" cy="1143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143000" y="2155680"/>
            <a:ext cx="67816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1625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8487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7086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0106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5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162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3T17:50:31Z</dcterms:modified>
  <cp:revision>107</cp:revision>
  <dc:subject/>
  <dc:title>The Art in the State of the Art</dc:title>
</cp:coreProperties>
</file>